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BCB-6DF9-4900-AD2B-0A8C3F2F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743-8563-4E6D-929C-27D3A192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B21-35E7-4B2E-9C11-3E708232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193-396D-4CBC-95D8-ED159C3A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95D-AC91-4CE4-A36A-70D990E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370-2C00-4D21-8EAD-7BBCCA3D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46F-EBAE-4CFE-9467-39E7F21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F42-19EE-4639-8C01-77D821F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741-7CC6-4279-8BD3-88DF31D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35F-B86E-4BF1-99E4-B181B87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A12-1C2B-45DF-8BDD-E6DA199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FD2-E4D6-432D-9307-A6C00A7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AE2-5FD8-4E19-BDA9-B44472C425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nday, 23-08-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week 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y: Morgane van Lier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jat Saidi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bastiaan Kerckh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rotterdam"/>
          <p:cNvPicPr/>
          <p:nvPr/>
        </p:nvPicPr>
        <p:blipFill>
          <a:blip r:embed="rId1"/>
          <a:stretch/>
        </p:blipFill>
        <p:spPr>
          <a:xfrm>
            <a:off x="1835280" y="2205000"/>
            <a:ext cx="5402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8. Explanation Phot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.15 – 14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door Vincent Knee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lfde groepsindeling als bij het speed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taal: E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Erasmus3 by Steven"/>
          <p:cNvPicPr/>
          <p:nvPr/>
        </p:nvPicPr>
        <p:blipFill>
          <a:blip r:embed="rId1"/>
          <a:stretch/>
        </p:blipFill>
        <p:spPr>
          <a:xfrm>
            <a:off x="4643280" y="4000680"/>
            <a:ext cx="43214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9. Phot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.30 – 1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atieve opdracht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camera’s van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ele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rasmus5 by Steven"/>
          <p:cNvPicPr/>
          <p:nvPr/>
        </p:nvPicPr>
        <p:blipFill>
          <a:blip r:embed="rId1"/>
          <a:stretch/>
        </p:blipFill>
        <p:spPr>
          <a:xfrm>
            <a:off x="6156360" y="2492280"/>
            <a:ext cx="28116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10. Bor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6.30 – 17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jsuitreiking photo game win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A ook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n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nog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queeze by Steven"/>
          <p:cNvPicPr/>
          <p:nvPr/>
        </p:nvPicPr>
        <p:blipFill>
          <a:blip r:embed="rId1"/>
          <a:stretch/>
        </p:blipFill>
        <p:spPr>
          <a:xfrm>
            <a:off x="5724360" y="3429000"/>
            <a:ext cx="3243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655560"/>
                <a:gridCol w="738360"/>
                <a:gridCol w="676080"/>
                <a:gridCol w="2306880"/>
                <a:gridCol w="579240"/>
                <a:gridCol w="493920"/>
                <a:gridCol w="495000"/>
                <a:gridCol w="1116000"/>
                <a:gridCol w="11685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tu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Speed dating" (+ small breakfast snack)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tting to know other stud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peech G.M. Mol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r. G.M. Mo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vereninging/ R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naat / Power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. J. Verdo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 Vincent Knee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ter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s, with RISA also,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uncement game wi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386920" cy="4071960"/>
        </p:xfrm>
        <a:graphic>
          <a:graphicData uri="http://schemas.openxmlformats.org/drawingml/2006/table">
            <a:tbl>
              <a:tblPr/>
              <a:tblGrid>
                <a:gridCol w="668160"/>
                <a:gridCol w="752760"/>
                <a:gridCol w="689040"/>
                <a:gridCol w="2350800"/>
                <a:gridCol w="590760"/>
                <a:gridCol w="503280"/>
                <a:gridCol w="504720"/>
                <a:gridCol w="1136520"/>
                <a:gridCol w="11908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tu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Speed dating" (+ small breakfast snack)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tting to know other stud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peech G.M. Mol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r. G.M. Mo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vereninging/ R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naat / Power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. J. Verdo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 Vincent Knee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ter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s, with RISA also,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uncement game wi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1. Welcom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09.30 – 1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en in groepen IBL/IBMS/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BMS: trap omhoog (kant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BL: Rechterkant v/d 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MA: Linkerkant v/d 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begeleiders naar 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ogo"/>
          <p:cNvPicPr/>
          <p:nvPr/>
        </p:nvPicPr>
        <p:blipFill>
          <a:blip r:embed="rId1"/>
          <a:stretch/>
        </p:blipFill>
        <p:spPr>
          <a:xfrm>
            <a:off x="6372360" y="5877000"/>
            <a:ext cx="25923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ogel"/>
          <p:cNvPicPr/>
          <p:nvPr/>
        </p:nvPicPr>
        <p:blipFill>
          <a:blip r:embed="rId1"/>
          <a:stretch/>
        </p:blipFill>
        <p:spPr>
          <a:xfrm>
            <a:off x="6572160" y="5003640"/>
            <a:ext cx="2463840" cy="17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2. Speed daten/ ontbijtsn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.00 – 11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gewezen lok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. 30 leerlingen per groep &gt; 3 min. per r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bijtje: koffie/thee, croissa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nsors Vifit/Yakult/Goedem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nog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3. Welcome speech Dhr. Mo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.30 – 11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hr. Molier uitno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cream Sebastiaan"/>
          <p:cNvPicPr/>
          <p:nvPr/>
        </p:nvPicPr>
        <p:blipFill>
          <a:blip r:embed="rId1"/>
          <a:stretch/>
        </p:blipFill>
        <p:spPr>
          <a:xfrm>
            <a:off x="7236000" y="4076640"/>
            <a:ext cx="170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4. R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.50 – 1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phan Rubbens en Unal Sezisli zullen sp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ie RISA is (waarom opgericht? ho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d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al bereikt he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kan betekenen voor jou als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hoe je lid kunt w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RISA"/>
          <p:cNvPicPr/>
          <p:nvPr/>
        </p:nvPicPr>
        <p:blipFill>
          <a:blip r:embed="rId1"/>
          <a:stretch/>
        </p:blipFill>
        <p:spPr>
          <a:xfrm>
            <a:off x="5292720" y="5300640"/>
            <a:ext cx="3672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5. Decan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.00 – 12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w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vr. Verdonk uitno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ijnrecht"/>
          <p:cNvPicPr/>
          <p:nvPr/>
        </p:nvPicPr>
        <p:blipFill>
          <a:blip r:embed="rId1"/>
          <a:stretch/>
        </p:blipFill>
        <p:spPr>
          <a:xfrm>
            <a:off x="6643800" y="3467160"/>
            <a:ext cx="2324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6.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.30 – 13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nch pakketjes via catering Hoge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Afbeelding 4" descr="http://tunnelvisie.files.wordpress.com/2009/05/tall-hamburger2.jpg"/>
          <p:cNvPicPr/>
          <p:nvPr/>
        </p:nvPicPr>
        <p:blipFill>
          <a:blip r:embed="rId1"/>
          <a:stretch/>
        </p:blipFill>
        <p:spPr>
          <a:xfrm>
            <a:off x="6643800" y="4143240"/>
            <a:ext cx="2000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vincent_kneefel"/>
          <p:cNvPicPr/>
          <p:nvPr/>
        </p:nvPicPr>
        <p:blipFill>
          <a:blip r:embed="rId1"/>
          <a:stretch/>
        </p:blipFill>
        <p:spPr>
          <a:xfrm>
            <a:off x="6143760" y="4189320"/>
            <a:ext cx="2830320" cy="2516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7. Spreker: Vincent Knee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3.30 – 14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ferte aangevraagd bij Speakers Acadamy.</a:t>
            </a:r>
            <a:br>
              <a:rPr sz="32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wat aan de hoge kant, maar onderhandeling loopt nog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€1500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taal: E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6:24:00Z</dcterms:created>
  <dc:creator>Sebastiaan Kerckhof</dc:creator>
  <dc:description/>
  <dc:language>en-US</dc:language>
  <cp:lastModifiedBy>WitNS</cp:lastModifiedBy>
  <dcterms:modified xsi:type="dcterms:W3CDTF">2010-05-19T11:19:32Z</dcterms:modified>
  <cp:revision>11</cp:revision>
  <dc:subject/>
  <dc:title>Program Monday, 23-08-2010 Introduction week RBS</dc:title>
</cp:coreProperties>
</file>